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192C3-5D7F-4772-B403-ABED38671B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AE520-6E7F-4F7D-89C9-240683652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resumen de las pruebas del caso práctico presentará en forma abreviada las pruebas que se presentarán a l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2F5D9-9586-430E-8A61-EFA70375C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os electrónicos intercambiados entre el personal del FBA y UBP a cargo de diferentes acuerdos comerciales y de negocios para la impresión de bonos de aniversa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rato entre el FBA y UBP sigue al intercambio de correos electrónicos y lo sitúa en el esquema del marco comercial del acuerdo. También establece pasos cruciales para el desarrollo de casos adicion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0946D-39FC-465B-8483-412F2512F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 extractos bancarios permiten seguir de cerca el desarrollo del caso. Los delegados podrán implementar el principio de "seguir el dinero" mediante el análisis de los extractos bancarios del FBA y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proforma es la original emitida por UBP al FBA por los 100.000 € de anticip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21B3C-B50B-4859-871A-9576CF4C4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segund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12312-302A-46DF-B73C-6525D0ADC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1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rreo electrónico y los siguientes son herramientas de comisión. El contenido de los correos electrónicos está redactado por el autor del delito e incluye los elementos necesarios para el análi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factura falsa está redactada por el autor del delito y dirige la transferencia del dinero a la cuenta bancaria real existente, pero abierta con un propósito fraudul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429E2-3C1E-4F26-A22D-B02B4CDBA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laraciones de responsables del Federal Bank of Atlantis que estuvieron implicados en las diferentes etapas del caso. Las declaraciones más importantes son las del Departamento Financiero y de TI, que da pistas o explicaciones sobre la forma en que se produjo la comisión r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011BF-CAE7-46F9-A2AD-AE01B81A3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terc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98878-9C84-4AA0-8C33-765B2A515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F0F23-95BA-498F-9DBF-BCDC6835B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CFCEB-0D0F-4405-AFB4-669C9C1CE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primera parte de la presentación consistirá en una introducción a la pruebas iniciales provistas en el material del context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segunda parte presentará el diseño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tercera parte será la comisión del acto crimi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cuarta parte sentará las bases para el inicio de la investigación y el trabajo del personal en form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quinta parte es un resumen de las presentada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FBE29-B074-4027-B4D8-A1F370062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 investigación debe comenzar en grupos de trabajo, y los líderes y los miembros del grupo deben iniciar su trabajo a partir de la base provista en el Material del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BFC14-267A-4E4D-BA94-9794DFB16E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cuart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81727-3760-4B59-A48B-36ED6C05B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4E59C-C2C0-44E1-8121-F0F6F1B80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F8EDCD-6F2B-4810-AADA-0C09545D4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A4AC5-933D-42A4-BFB7-10A94DFEA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contexto comienza con el establecimiento del Federal Bank of Atlantis (FBA) como un banco internacional conocido, consolidado y acreditado. Una descripción como esta debería llevar a los participantes a concluir que este tipo de banco no debería estar implicado en ningún tipo de problema, y ​​mucho menos en uno similar, que se describirá más adelante en 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024D5-93CC-48FF-AD7A-A7AB2681D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e empresa de las compañías implicadas en el contexto del caso. El material incluye 3 archivos distintos de MS Word en formato 97-2003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FDC2E-7096-4BD7-81B6-9AF63D940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intos documentos complementarios para el contexto del caso. El material incluye 3 archivos distintos de MS Word en formato 97-2003 y Adobe Reader. Estos deben estar a disposición de los delegados en copia impresa o, si las circunstancias lo permiten y todos los delegados tienen acceso único a los ordenadores, de forma electrón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A787A-961F-46DD-A765-8DCBAA9F6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 instructor debe ofrecer a los participantes la oportunidad de realizar cualquier pregunta que puedan tener en relación con la primera parte de la lec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45EBE-56B1-4673-9FB5-B0AC465B0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6B4-02D1-497E-A288-BC4F55A8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D06-B033-4C8E-B6B2-E9A2B5EC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01F7-198E-40DE-9464-5B5E394E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801-FB47-4227-B58F-9F08F73D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3F3-4ECD-4A5E-A1D6-E2DC6521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490-5B90-40E0-A08E-C3F0DE69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D0D-D005-4E71-A3CB-11D0710E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F8F-BADC-406C-BFA6-25589835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247-0F8F-40A9-A45B-013A0BD3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0A7-79BA-49ED-8D43-FBE4E084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EC5-9C46-4F1F-952C-DEF58A19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524-D6EC-4BAD-91F5-D1989D13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D81EF-325D-4021-876A-28EFDEE15A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9B04E-1CFA-4365-A016-3CFD4513A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so avanzado de formación en ciberdelincuencia para jueces y fi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ón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umen de la pruebas del caso prác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47760" y="86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rreos electrónic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cambio de correos electrónicos entre el FBA y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n correos electrónicos tras el desarrollo del intercambio entre la parte contratante y los responsables en el FBA y UBP para la emisión del bono aniversa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cumentos e infor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facilita el contrato entre el FBA y UBP no solo para tener una perspectiva y realizar un análisis más minuciosos, sino también como prueba complementaria para el archivo del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347760" y="90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76A341C-828E-468C-91AD-CB7639789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34800" y="7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Extractos bancarios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 recogen numerosas transacciones, incluido el pago por adelantado de 100.000 € que se detalla en esta Declaració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tracto bancario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ocklands Securities Bank of Norland es la entidad que realiza las transacciones bancarias de United Bank Print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ura proforma de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UBP ha emitido la factura proforma al FBA por un monto de 100.000 €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-60948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D6DC77B-032C-45F5-B8D8-99CCD4C30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1007714-CC68-4AEC-97B8-7B76EA445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rcer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isión: pruebas y declaraciones de testig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B750004-F525-4C25-AEF5-104DE5889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Correos electrónic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l 1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rreo electrónico e intercambio subsiguiente como momento clave de la comisión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peta "Extractos banca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 factura falsa de UBP incluye información de cuenta fraudulenta y una solicitud de pago por valor de 200.000 € tras finalizar la impresión de 20.000 bon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697E7F4-854E-4343-A753-F3DB8013C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i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peta "Declaraciones de testigo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Logística y Operaciones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Financiero del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laración del Departamento de Tecnologías de la Información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9F6E002-E133-437B-9FFF-7581055B0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005C1E1-2EB9-4C42-881D-8381CF280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uarta par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9893794-98BA-4BFE-8A37-927F0C64F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naza persistente avanz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conjunto de procesos de piratería informática sigilosa y continua, a menudo orquestados por una persona o personas y dirigidos a una entidad específic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24D26EC-AD75-4A22-843C-1A8CF6565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ptomon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activo digital diseñado para funcionar como medio de intercambio utilizando la criptografía para asegurar transacciones y controlar la creación de unidades adicionales de la mon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E27088F-22ED-4186-9DDA-4D34F075B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803160"/>
            <a:ext cx="868680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imera parte.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gunda parte.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rcera parte.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isión y declaraciones de testi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uarta parte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inta parte.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45BD96C-BAA5-4081-A8C0-550767038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ber-​​ingeniería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"tipo de truco de confianza con el propósito de recopilar información, cometer un fraude o acceder a un sistema"; difiere de un "engaño" tradicional en que a menudo es uno de los muchos pasos dentro de un esquema de fraude más complej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DCF7431-976B-45FB-A8B3-5F7050B84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2790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FE36787-992B-4E92-BEA9-73DBFE937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término de esta sesión, los delegados sabr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la introducción y las pruebas iniciales del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Comprender el desarrollo del caso mediante el análisis de pruebas electrónicas y reales present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eguir la comisión real y encontrar hechos adicionales en declaraciones de testig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Encontrar información adicional acerca de términos y definiciones clave de las herramientas del mundo cibernético y de la ciberdelincuencia, y aplicarlas en este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2073E82-6F55-45A7-8103-37640BE44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D04C962-49E3-4F1E-983B-777DEEEA8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865080"/>
            <a:ext cx="8512200" cy="54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 término de esta sesión, los delegados sabrá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Comprender la introducción y las pruebas iniciales del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Comprender el desarrollo del caso mediante el análisis de pruebas electrónicas y reales present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Seguir la comisión real y encontrar hechos adicionales en declaraciones de testig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contrar información adicional acerca de términos y definiciones clave de las herramientas del mundo cibernético y de la ciberdelincuencia, y aplicarlas en este ca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960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e la ses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34501B8-EC73-4DCC-8B11-FA667E8BC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mera parte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 y 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3AA9C3E-C57A-4B61-B933-140A447D0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Introducción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nopsis del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contexto de caso práctico pertenece a los esquemas conocidos recientemente como de "Compromiso comercial por correo electrónico" o "BEC", que derivan de fraudes detectados anteriormente como "Fraude del CEO" o de "Intermediarios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alcance y el tamaño de estos fraudes es asombroso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C629E07-C76D-491B-8AAE-3E0A9776F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"Perfiles de empresa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 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il de empresa del 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scripción, organización y respons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BCCDE9D-C0EE-4502-9015-A05E87921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rpet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"Documentos e informes"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uncio del FBA de su bono aniver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cisión del Consejo de Administración sobre la emisión de bonos y elementos financieros del mism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no del F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royecto inicial del bono que incluye elementos impres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trato entre el FBA y UB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Contrato suscrito para el servicio de impresión de 20.000 elementos del bono aniversario del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uebas inici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83B879A-B9C1-4439-9360-8A61BF467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re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4B63F3C-B4CB-4CBD-BCD3-9D789377B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gunda parte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arrollo del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D315016-3456-4BC8-8686-7FB290682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Ademas lo más</cp:lastModifiedBy>
  <dcterms:modified xsi:type="dcterms:W3CDTF">2019-04-03T00:15:49Z</dcterms:modified>
  <cp:revision>183</cp:revision>
  <dc:subject/>
  <dc:title>Introductory Cybercrime Training for Judges and Prosecutors</dc:title>
</cp:coreProperties>
</file>